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125-D80B-40A7-A9D0-2085D984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6A4-919E-4709-A748-7E981227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927-E5A4-40C4-9D64-CF18FE0D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123-D209-4B39-A7A6-971FDBF3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0E2-0F6B-4BC0-9077-260D606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2E1-A4F5-4215-AA4B-284C452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A56-BA11-435A-830A-950FF2B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12F-DC28-4AAD-8BBC-71DD8AF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FE3-7404-4D7D-A60F-95AA8C7A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201-2EFF-40D5-8A4D-AB032C7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185-352E-4A11-8675-E330ED9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E57-6A1B-4DD7-99C4-B12B701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36DC-2F96-48D0-A631-DB20D478A84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Sea Level 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Ice Age large amounts of water were stored as ice and snow, causing the sea levels to f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exposed areas to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Ice Age, when the ice and snow melted, many coastal areas were floo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ises and falls in sea level have created landforms such as drowned coasts and raised bea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atures Of Sea Leve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aised Bea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pre-glacial erosion of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Ice Age the sea levels fall leaving the old coastline high above the present sea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end of the Ice Age sea levels have risen again, but not to their previous le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sed beaches continue to be above the present sea level by quite a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atures Of Sea Level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rowned Coa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Level rise after the last Ice Age caused estuaries and inlets to be floo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ccurred in South West England, drowning many river valleys around the coasts of Devon and Cornwall, and creat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ther, more northern areas, glacial valleys were drowned to crea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j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21:19Z</dcterms:created>
  <dc:creator>Dell_02</dc:creator>
  <dc:description/>
  <dc:language>en-US</dc:language>
  <cp:lastModifiedBy>Dell_02</cp:lastModifiedBy>
  <dcterms:modified xsi:type="dcterms:W3CDTF">2011-01-27T00:24:22Z</dcterms:modified>
  <cp:revision>1</cp:revision>
  <dc:subject/>
  <dc:title>Sea Level Change</dc:title>
</cp:coreProperties>
</file>